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B32-E2B2-4949-A0FB-517906ADA4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757-541B-4446-BD86-01B19207F9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5C2-0D9E-40FB-97EA-1A806652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73B-D89B-4F08-B99A-FBBF4700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A57-918B-4930-BB4C-3ABC5E2D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2A0-D663-4C45-9F88-479B4341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021B-74AD-4A12-8096-F20B4253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3685-7E34-4D0A-A8F9-ABFF5332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C1E5-3BFE-4CB2-8EE7-2E999EA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E1E5-8781-490C-B19E-78345CE3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E27-5C30-4345-89FA-BD69DD1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9C63-752E-486C-BF68-A909F307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56A-5562-461B-B8C3-E6CB06F1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59C-2B0D-4FC2-8FC2-DDE283E1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3A52-E2B2-42D3-A016-596EF2CB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D827-6B0A-44CE-9284-9B1DD892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B02-E906-40D9-97E7-DFB8CC50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5F65-8AA2-4A82-B392-54585623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0E1F-C5B3-4CDD-A801-8764E181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4B0F6-F13C-4B3C-897B-F0E082B1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044FF-A7AA-41E8-8D34-8C08D78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1E856-A816-4AF1-BC0F-3D17E79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1A8C8-4497-4639-866B-9B6F0001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27D8F-F499-4843-B1EE-D3F3D4FF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046-106F-4F94-866C-5268DC08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66EA4-A107-4DB4-9E8E-4E3D2D3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6A8E9-15E6-4946-9C9B-9927412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C1868-8E61-40B1-B96D-81286AC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B0D43-1730-4442-90EE-90CB56C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FBC05-C662-49DB-B682-459ED446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D89A6-F51C-4634-8627-B96D5C7F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D3787-BC51-4C22-BC06-DFF50975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4AF5-4FF0-45F4-B822-3B0C06EF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A678-699A-4D7D-BA86-47B82423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2147-948E-405E-BD2E-B9689E46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FA6-884A-4124-B1E9-AB46D6B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71ED-9C50-4330-8943-C126E8A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BEFB-FCC8-4588-9D8B-EA7E38F7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5569-82F6-4C67-83EC-BC54C57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291F-429A-4A0B-A69F-1078B4C0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6BF6-9F4A-409F-A0B4-2421478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F331-2B50-4AC1-88A6-F509A74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5DEC-0C67-4D33-95B3-202C1DB4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20C7-E37E-4108-AA6D-5D6CF7F6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5140-C408-460A-A66B-AADE62DD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BE0F0-ABB4-47FC-9A57-2EF83292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F40-C25A-4F86-B19D-022124B3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95733-04F7-42C4-911C-7999B27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AB1BF-F24E-4D46-9D95-469F428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DFBD1-7107-4F52-ABA6-BF28CB7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E13F9-77E9-41AE-94A2-D3C5BD72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B8D8E-855B-47CC-AB2A-BEE7F09E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6526C-D588-4341-AF0A-CE5B303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C2CEF-CA49-487E-A52D-0D5F4B4B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3E4FF-8895-4FCA-8C49-ACDA5FC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BE118-5A68-444A-B9BC-AFEA878E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66AD4-F447-4017-861C-2AB6448F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894-0E96-4205-8401-E38AC33A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74963-FC07-4571-944C-85328B8D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F1A2D-9590-4156-9B38-4765F2AE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5FED7-ECFD-4A88-B0EE-8702A9B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2AC1F-2FC1-41B6-B2DB-FF5BB9CC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3E7AA-CF1A-4E03-ACC7-6067600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39063-A982-443A-987F-922ECEEB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16A74-166A-4985-B438-7056F4BE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2875D-25A3-41FB-A363-49298B0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93969-6D0D-480F-AF70-1C2FC29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8480A-CE41-4B6E-894B-A21E0951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B3A-2286-4230-8AD5-82888ADA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5849A-0500-4770-82EC-63C43607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3220C-E07B-4B7C-9CA4-0C18CA49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E5353-BD17-4C6E-AEBA-3881BCF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A6A97-A335-4C3D-8361-9D46EEFC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75EF1-FB7D-40E1-959C-7793F16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26678-A8A4-4E8B-93AD-C2D64ABB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9C5B6-5EEF-43C3-B691-63EB6708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B9E51-3996-4D54-9560-1FAA695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9E746-A1B7-440A-9DCB-9F7427F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11710-263A-4C25-A4E9-206226D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E64-D4DA-4C0F-8762-54C2009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C9B31-FB86-4D87-BD93-7B43AB2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B7D0B-C302-4044-8A60-9C72714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33695-600A-4A00-8F90-6C6CF1F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41004-CFE5-4A59-B4BF-823C8593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D88E2-BACF-45AD-95EC-AF9AAB59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C9609-DA7E-41C4-82E7-3A29A155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F5F9E-E157-4503-A2EC-AFC4E3E6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B85F-AA05-46D6-9A02-4283E49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8CBC6-86F6-42F4-91AA-F0371056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8215-1D95-4202-B3D0-B43F12B0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180-0CD6-4FE5-BCB8-C85538C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60431-A6A3-4CC8-96B7-D48CD91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4DD11-04EA-4874-9CDB-7F3F6A7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FA7BD-0709-47AF-9766-C4556BB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FEA8-045C-48CB-A1C3-0512556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D77B4-94F8-4E9B-901C-0451686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264BA-479E-4FF0-A3F9-E7856D21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2A6DC-AD4C-4C1D-A350-925892FE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B411-72B1-4234-8142-5ED0FFAFB40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9A1-5BF5-4C35-A99B-C6846C06374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3C81-2F62-4CFA-A35F-3258E2ED4D8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695-5622-4635-B14C-C4A17437857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D2B0-607C-4B54-BBEA-02C5A638DCA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4AD0-4ED3-454D-81A3-FB0D571D89A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603A-7E9A-4755-8453-C26BFEC5D1B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7FC-CBDB-436A-80A9-BD8EB7BB97D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5640" y="2060280"/>
            <a:ext cx="6172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TEMA 3. LOS ALIMENTOS Y LA DIETA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1723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Century Schoolbook"/>
              </a:rPr>
              <a:t>5. CONSERVACIÓN DE LOS ALIMENT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l vacío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mpaquetar sin air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impide la acción de agent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tmosféric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Inconvenient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no elimina gérme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Deshidrat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: elimina el agua del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limento (liofilización=congelar y separar el agu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eserva el alimento durante más tiemp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Inconveniente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ierde características originales y destruye algunos nutrient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Calo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sterilización: altas temperaturas poco tiempo (110 Cº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Century Schoolbook"/>
              </a:rPr>
              <a:t>Ventajas 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conserva el alimento envasado indefinidament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Schoolbook"/>
              </a:rPr>
              <a:t>Inconveniente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destruye algunas vitamina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asteurización: temperaturas de 72Cº durante 15 segund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mantiene el valor nutriciona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Schoolbook"/>
              </a:rPr>
              <a:t>inconvenientes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sólo conserva 48 hora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5" descr="conservacion_alimentos"/>
          <p:cNvPicPr/>
          <p:nvPr/>
        </p:nvPicPr>
        <p:blipFill>
          <a:blip r:embed="rId1"/>
          <a:stretch/>
        </p:blipFill>
        <p:spPr>
          <a:xfrm>
            <a:off x="5715000" y="765000"/>
            <a:ext cx="3429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rí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antiene los alimentos a bajas temperatur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Refrigeración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por encima de 0 º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Congel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por debajo de 0º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tege el valor nutricion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Inconveniente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no elimina gérmenes, sólo retras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u crecimient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ditivos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impide el desarrollo de microorganismos añadiendo sal, vinagre, aditivos químicos, sustancias volátile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Ventajas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sencillo y económic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Inconvenientes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limina propiedades originales y destruye nutrient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Picture 5" descr="1b0294273513b56c2386bc513c8f8fe4"/>
          <p:cNvPicPr/>
          <p:nvPr/>
        </p:nvPicPr>
        <p:blipFill>
          <a:blip r:embed="rId1"/>
          <a:stretch/>
        </p:blipFill>
        <p:spPr>
          <a:xfrm>
            <a:off x="6659640" y="981000"/>
            <a:ext cx="22651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Century Schoolbook"/>
              </a:rPr>
              <a:t>6. LOS ALIMENTOS TRANSGÉNIC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95280" y="1125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rganismo transgénic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al que se le ha introducido información genética procedente de otro ser vivo para que produzca características propias de es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mento transgénic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al que proviene de organismos transgénicos o los contien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Ejemplo:</a:t>
            </a:r>
            <a:r>
              <a:rPr b="0" lang="es-ES" sz="2400" spc="-1" strike="noStrike">
                <a:solidFill>
                  <a:srgbClr val="ff9900"/>
                </a:solidFill>
                <a:latin typeface="Century Schoolbook"/>
              </a:rPr>
              <a:t> (trigo, arroz, maíz) patatas transgénicas contra el escarabajo de la patat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5" descr="transgenicos"/>
          <p:cNvPicPr/>
          <p:nvPr/>
        </p:nvPicPr>
        <p:blipFill>
          <a:blip r:embed="rId1"/>
          <a:stretch/>
        </p:blipFill>
        <p:spPr>
          <a:xfrm>
            <a:off x="1476360" y="4005360"/>
            <a:ext cx="597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1. LA DIE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4000" y="907560"/>
            <a:ext cx="8496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a función de los alimentos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Plástic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limentos ricos en </a:t>
            </a: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proteínas y sales mineral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Construir nuestra propia materia, crecer y reponer los materiales perdid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Energétic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limentos ricos en </a:t>
            </a: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glúcidos y lípid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iberan energía (realiza trabajo muscular, mantiene tª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Regulador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limentos con sales </a:t>
            </a: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minerales y vitamin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egulan que los procesos se desarrollen con normalid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a rueda de los aliment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grupamos los alimentos segú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tipo de nutrientes que aporta 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 función en el organ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5" descr="rueda"/>
          <p:cNvPicPr/>
          <p:nvPr/>
        </p:nvPicPr>
        <p:blipFill>
          <a:blip r:embed="rId1"/>
          <a:stretch/>
        </p:blipFill>
        <p:spPr>
          <a:xfrm>
            <a:off x="5580000" y="4149720"/>
            <a:ext cx="3384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4739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RUEDA DE LOS ALIMENTO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leche y derivado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FUNCIÓN PLÁS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carnes pescados y huevo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FUNCIÓN PLÁS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I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patatas, legumbres y frutos seco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: PLÁS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ERGÉ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EGULAD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IV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Hortalizas y verdur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EGULAD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V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Frut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EGULAD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V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cereales, azúcares y cereale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ENERGÉ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Grupo VII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aceites y gras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UNCIÓN </a:t>
            </a:r>
            <a:r>
              <a:rPr b="0" i="1" lang="es-ES" sz="2000" spc="-1" strike="noStrike">
                <a:solidFill>
                  <a:srgbClr val="000000"/>
                </a:solidFill>
                <a:latin typeface="Century Schoolbook"/>
              </a:rPr>
              <a:t>ENERGÉ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7" descr="rueda de losalimentos"/>
          <p:cNvPicPr/>
          <p:nvPr/>
        </p:nvPicPr>
        <p:blipFill>
          <a:blip r:embed="rId1"/>
          <a:stretch/>
        </p:blipFill>
        <p:spPr>
          <a:xfrm>
            <a:off x="324000" y="885960"/>
            <a:ext cx="84247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333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La dieta mediterránea: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dieta que siguen los habitantes de los países de la cuenca mediterráne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utrientes de la dieta mediterráne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Glúcid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; base de la dieta, aportados por (cereales, legumbres, frutas y verduras fresc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Proteínas;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más del pescado que de la car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Gra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; aceite de oliva (grasas insaturad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3300"/>
                </a:solidFill>
                <a:uFillTx/>
                <a:latin typeface="Century Schoolbook"/>
              </a:rPr>
              <a:t>Vitaminas y sales mineral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; de frutos secos y verduras fres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5" descr="dieta_equilibrada1"/>
          <p:cNvPicPr/>
          <p:nvPr/>
        </p:nvPicPr>
        <p:blipFill>
          <a:blip r:embed="rId1"/>
          <a:stretch/>
        </p:blipFill>
        <p:spPr>
          <a:xfrm>
            <a:off x="5435640" y="4149720"/>
            <a:ext cx="35290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e8637"/>
                </a:solidFill>
                <a:latin typeface="Century Schoolbook"/>
              </a:rPr>
              <a:t>2. UNA DIETA ADECUADA A NUESTRAS NECESIDA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2 CuadroTexto"/>
          <p:cNvSpPr/>
          <p:nvPr/>
        </p:nvSpPr>
        <p:spPr>
          <a:xfrm>
            <a:off x="755640" y="1413000"/>
            <a:ext cx="741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tipo de energía usa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útil, la que contienen los nutrientes, se llama energía 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iración celular se libera tres tipos de energ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ánica: movimiento, músculos, movimiento esqueleto, corazón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ímica: fabricar nuevas moléculas. La energía se almacena en los compuestos que se fabric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érmica o calor: mantener la temperatura corp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nergía que aportan los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nutriente aporta una cantidad de energ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g de glúcido y proteína      4,3 K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g de grasa          9 K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imentos contienen una proporción característica de todos los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a dieta equilibrada, los glúcidos deben aportar 55 % de la energía, las grasas 30 % y las proteínas 15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5 Flecha derecha"/>
          <p:cNvSpPr/>
          <p:nvPr/>
        </p:nvSpPr>
        <p:spPr>
          <a:xfrm>
            <a:off x="3492360" y="4869000"/>
            <a:ext cx="216000" cy="460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6 Flecha derecha"/>
          <p:cNvSpPr/>
          <p:nvPr/>
        </p:nvSpPr>
        <p:spPr>
          <a:xfrm>
            <a:off x="2340000" y="5157720"/>
            <a:ext cx="360360" cy="44640"/>
          </a:xfrm>
          <a:prstGeom prst="rightArrow">
            <a:avLst>
              <a:gd name="adj1" fmla="val 50000"/>
              <a:gd name="adj2" fmla="val 49781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2 CuadroTexto"/>
          <p:cNvSpPr/>
          <p:nvPr/>
        </p:nvSpPr>
        <p:spPr>
          <a:xfrm>
            <a:off x="395280" y="692280"/>
            <a:ext cx="784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uánta energía necesita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necesidades energéticas que una persona necesita en completo reposo, ayuno y temperatura adecuada se llam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tabolismo bas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l sexo, altura, edad y peso, s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jeres: 7,4 x peso en Kg + 428 x altura en m + 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s: 16,6 x peso en Kg + 77 x altura en m + 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es factores que afectan al consumo de energía son: actividad física, temperatura ambiental y actividad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dieta energéticamente fav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que aporta todos los tipos de nutrientes y en las cantidades adecu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 adulto, con el peso adecuado a su edad y sexo, tiene sus necesidades energéticas cubiertas si su peso se mantiene es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3. TRASTORNOS RELACIONADOS CON LA ALIMENTACIÓN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malnutrición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hace referencia a una nutrición inadecuada, debida a una alimentación deficiente o un consumo excesivo de aliment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Enfermedad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Desnutrición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la cantidad de alimento que se toma no es suficiente para satisfacer las necesidades de energía del organismo (1º en consumirse glúcidos, luego lípidos y último proteínas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Enfermedades carenciales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falta de algún nutriente necesario (beriberi=carencia de vitamina B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Anorexia nerviosa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miedo a ganar peso y una imagen distorsionada del propio cuerpo. Dieta estricta y exceso de ejercicio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Bulimia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ingerir grandes cantidades de alimentos para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espués provocar el vómito y evitar engorda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Obesidad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exceso de grasa corporal por la ingestió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excesiva de alimentos energéticos y una vid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sedentari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4" descr="Cartel_DNN_2008_HR"/>
          <p:cNvPicPr/>
          <p:nvPr/>
        </p:nvPicPr>
        <p:blipFill>
          <a:blip r:embed="rId1"/>
          <a:stretch/>
        </p:blipFill>
        <p:spPr>
          <a:xfrm>
            <a:off x="7020000" y="4292640"/>
            <a:ext cx="153180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3300"/>
                </a:solidFill>
                <a:latin typeface="Century Schoolbook"/>
              </a:rPr>
              <a:t>4. EL ETIQUETAD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nomin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alidad y ori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odo de emple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trucciones para s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erv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echa de consum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eferente / caduc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ista de ingred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ación nutricio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dentificación de la empre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rado alcohólico (en bebidas con más de 1,2% de alcohol en su volume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5" descr="etiqueta"/>
          <p:cNvPicPr/>
          <p:nvPr/>
        </p:nvPicPr>
        <p:blipFill>
          <a:blip r:embed="rId1"/>
          <a:stretch/>
        </p:blipFill>
        <p:spPr>
          <a:xfrm>
            <a:off x="4284720" y="1700280"/>
            <a:ext cx="4643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95280" y="189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Aditivos alimentarios: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sustancias que se añaden a los alimentos par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mejorar su conservación o modificar sus característica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Conserv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preserva los alimentos sin alteraciones durante más tiemp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Estabiliz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mantiene las emulsiones de grasa en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Gelific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da consistencia a los alimentos poco sóli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Colorant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mantienen el color del alimento o lo modifi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6" name="Picture 5" descr="nestea"/>
          <p:cNvPicPr/>
          <p:nvPr/>
        </p:nvPicPr>
        <p:blipFill>
          <a:blip r:embed="rId1"/>
          <a:stretch/>
        </p:blipFill>
        <p:spPr>
          <a:xfrm>
            <a:off x="2843280" y="3838680"/>
            <a:ext cx="39909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0:46:38Z</dcterms:created>
  <dc:creator>BIO_GEOLO_3</dc:creator>
  <dc:description/>
  <dc:language>en-US</dc:language>
  <cp:lastModifiedBy>Centor</cp:lastModifiedBy>
  <dcterms:modified xsi:type="dcterms:W3CDTF">2015-12-29T13:35:09Z</dcterms:modified>
  <cp:revision>77</cp:revision>
  <dc:subject/>
  <dc:title>TEMA 2: DIETA Y ALIMENTOS:</dc:title>
</cp:coreProperties>
</file>